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ct" ContentType="image/x-pict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9.pct" ContentType="image/x-pict"/>
  <Override PartName="/ppt/media/image5.pct" ContentType="image/x-pict"/>
  <Override PartName="/ppt/media/image7.gif" ContentType="image/gif"/>
  <Override PartName="/ppt/media/image6.jpeg" ContentType="image/jpeg"/>
  <Override PartName="/ppt/media/image8.pct" ContentType="image/x-pict"/>
  <Override PartName="/ppt/media/image2.png" ContentType="image/png"/>
  <Override PartName="/ppt/media/image4.jpeg" ContentType="image/jpeg"/>
  <Override PartName="/ppt/media/image13.pct" ContentType="image/x-pict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cooperatively decide which two samples to use to respond in the moment; one additive sample, one multiplicative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unter 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rielle 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eigh (Sample #3) – mathematical vocabulary is behind her conceptual understanding – doesn’t have the form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oups of 5 gather at one chart paper (Strengths, Needs, Next Steps for the additive or multiplicative student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one marker go from quote-to-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at firs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at each of the nex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participants to the concept of the “Parking L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do our best to honor every conversation, but at times we will need to move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lingering questions, new questions, comments etc. - “park” them in the parking lot - we have set aside time at the end of the Proportional Reasoning breakouts to address as many as we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ut one idea on each sticky n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complete this task independ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articipants a moment or two to review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to share anything of particula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ou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en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18A3-516C-41CB-BC09-B8E99CD3D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67F6-DC25-4422-BDAF-DF7C6220F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78D-A21A-4808-A41E-65159B071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84F7-82F8-430E-A1E1-C1DA8FAD5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549F-36E8-46B5-9921-8BC040608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278F-EA3E-42D9-8F2C-0368970F9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E72B-A3F4-4C34-88EE-069F27897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94C2-305B-4C7B-8C00-20C29BF4A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48F4-98BC-46D9-953A-F3AB97EDE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CE0D-576A-4DD3-BC70-2C8D2F12D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C65B-12D6-419B-9E55-4D0E20A4E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9F3D-BE0F-4CAD-8A3C-99F99A596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4EA6-C3CB-4F0F-871C-62EB6DFDB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mazon.ca/Six-Dinner-Sid-Inga-Moore/dp/0671796135" TargetMode="Externa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jpeg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75C-20EB-4CC1-8159-26993A4D30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group choose two samples you are interested in responding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ultiplicativ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ditiv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0970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762120" cy="699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ffiti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, record your feedback for the sample response you have cho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previously-recorded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ignal, finish recording your ideas and move to the next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14300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at your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ignificant point(s) will you share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486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1360" y="50472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447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Proportional Reas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 on sticky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dea will go on a separate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386064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partner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Rea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colour, revise your concept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343400" cy="30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sample response for Six-Dinner 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place it on the Stages of Multiplicative Thinking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404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05320" y="592776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d has 6 owners who all don't know about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he eats 6 dinners each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dinners would he eat in a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 flipH="1">
            <a:off x="6476760" y="304920"/>
            <a:ext cx="1811160" cy="21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819520" cy="1877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3435480"/>
            <a:ext cx="1371600" cy="1898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5588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4T00:17:28Z</dcterms:modified>
  <cp:revision>98</cp:revision>
  <dc:subject/>
  <dc:title>&lt;Title&gt;</dc:title>
</cp:coreProperties>
</file>